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7AF-FD5F-4690-931C-C5A8C000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347-C22D-4D9B-A454-4860D951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D58-CF82-48D6-B1FA-C2A3185E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9EB-3D6B-4926-BF3A-20E880B1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4CAB-3517-4F70-B5B2-FF5736C3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603D-00A2-42B7-B513-9EDD58F1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C67D-47D7-4418-9DA7-5DE44FF5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BFA4-436F-4C94-ADC5-5AC8FA6A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8D53-882D-400A-94E8-A1A49D4E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DE1F-A437-4BE4-963B-0498AF53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0890-A902-44EA-8AE3-F649548F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D41-81E5-40ED-B420-7CA42FEA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889B-A504-4D8A-82D7-BA2CB2EB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AF14-8311-445A-A34C-36CC2123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8460-7384-4768-9D6F-363764C5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C40B-64ED-458D-9B2D-B55A492D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4770-8DA1-4340-AD2C-B6CFBB20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99F-77EC-4BD6-8438-C3AB5CAD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7E61-A417-4723-A5B4-4B77638C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F2A-3F56-456F-84C4-8A95DB22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4EE-021B-47B1-BE50-DE8D009D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E1F-7225-462D-B715-8A2DE7F3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7130-4F5E-42B4-B379-2849B039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29F-826C-4403-A948-AE53856B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D5DC-0D17-4DA8-9EE7-822EDC764E8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B5AB-F403-47B4-BC03-D4F1946E1A0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903"/>
                </a:solidFill>
                <a:latin typeface="Arial"/>
              </a:rPr>
              <a:t>Group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What can I do to be a good group member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Active liste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Be prepared for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Contribute as a le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Keep discussion flow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Give 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Discussion Forma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Panel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Sympos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Town Hall Mee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Panel Discussion</a:t>
            </a: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Informal discussion that takes place in front of an aud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Small group (3-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Sit facing the audience but usually direct comments toward pan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Helps to inform audience about public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Panel Discussion Cont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Open forum: may follow panel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udience 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Round table: type of panel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(3-8 members) sit around a table to discuss an issue of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Symposiu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Fo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Present opposing points of 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xperts deliver short spee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After each speaker, the audience gets to ask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Town Hall Mee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Early American Colon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Today, rather than gathering in a hall, people use TV or the Internet to discuss important issues with people all over th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Successful Group Discuss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Group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Cohe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Seating Arrang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Dewey’s System for </a:t>
            </a:r>
            <a:br>
              <a:rPr sz="4200"/>
            </a:b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Problem-Solv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66"/>
                </a:solidFill>
                <a:latin typeface="Arial"/>
              </a:rPr>
              <a:t>Define the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66"/>
                </a:solidFill>
                <a:latin typeface="Arial"/>
              </a:rPr>
              <a:t>Establish Criteria for a Workable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66"/>
                </a:solidFill>
                <a:latin typeface="Arial"/>
              </a:rPr>
              <a:t>Analyze the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66"/>
                </a:solidFill>
                <a:latin typeface="Arial"/>
              </a:rPr>
              <a:t>Suggest Possible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66"/>
                </a:solidFill>
                <a:latin typeface="Arial"/>
              </a:rPr>
              <a:t>Evaluate Each Solution and Select the Be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66"/>
                </a:solidFill>
                <a:latin typeface="Arial"/>
              </a:rPr>
              <a:t>Suggest Ways for Testing or Carrying Out the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Conflic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Constructive Conflict: members use their differences to come up with new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Disruptive Conflict: discussion turns into a deb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ersonal victory more important than solving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4:19:52Z</dcterms:created>
  <dc:creator/>
  <dc:description/>
  <dc:language>en-US</dc:language>
  <cp:lastModifiedBy>system3</cp:lastModifiedBy>
  <dcterms:modified xsi:type="dcterms:W3CDTF">2009-08-25T09:12:26Z</dcterms:modified>
  <cp:revision>0</cp:revision>
  <dc:subject/>
  <dc:title>Chapter Seven:</dc:title>
</cp:coreProperties>
</file>